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092196-6A3C-44EF-A7B8-10E2C913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B8C62D-432B-4ACF-8DF9-A3904A9A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035DAA-1965-4515-9D5F-B0CFF152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F595C9-0A65-44F8-836D-952C4FE7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40D629-405A-49FA-BB46-78DD7694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07D6F6-8D83-4A83-BC0E-9A27493F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040858-1E72-405B-AB6C-CA4C433D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D7E6D-669E-40DE-8F15-53E88AD5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E6D896-0D42-495E-BECD-BD63E1C8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2C5B6B-ECD4-4DC7-9D7C-24D80A76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40CCB9-9AD0-43F0-8D56-3046EBD5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EE1321-3A53-4007-90C5-6BDF7CBB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EF31EB-0882-46C1-8821-8F2A3290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F03F04-4ED3-4652-B65F-F1AD7784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C5F2F3-FA1B-4CFE-9D75-631EAA1E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56757B-C919-40E7-B269-E3E63F4E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815B5E-86B7-47B3-8408-EFB1E778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839F55-F409-4D13-9386-5E4450E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62EE8E-4D7A-4A05-B412-CBA69267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023360-8E8D-4ABC-B145-7E713E45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B19D82-8062-4428-9BD1-30B9BB08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EF1F06-F699-4579-918B-F95B96D1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AB086F-70B1-4C6F-AA6D-EA6D635A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4A2A23-CA39-4619-8EE9-DE1151AD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FAC722-CE36-4C4E-A3F2-EEFB4B26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211E25-2F30-4282-B0F7-0007BB21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F91890-6EA3-412D-BD5E-41B234A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E7F18A-0C21-4465-AD93-75B64C7A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74BA98-29B7-4EC4-BCE0-BACD7FE6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489C68-85E9-4AB9-BE9B-BBF3E728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B64A55-0DF9-4BD4-A36F-7130A5FE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BE58CD-030E-4F23-91E7-A4AE2D6F4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33D37F-461E-4A16-BD9C-FB93F536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6C4C5D-4F8B-4661-86BA-1D8DB174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74E74F-29D7-4E95-8A17-EB028520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5D953D-55EF-4E02-A53B-AD62A694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E2C693-331F-4E7B-9895-AC0728C3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210941-08C8-415B-B629-6A58A452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CCC9DB-263D-4CE1-9E7E-530C8F75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679FAF-1CFA-44E1-A912-56528124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467B04-65E2-4C82-9732-B41E4DA4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AD717B-9AD5-4E84-A99B-69988486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79948C-A540-49A5-9677-4968F58B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12ED7B-F6CC-46FF-925F-86541C8D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C78803-5E00-4770-9D81-9AA56EEF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B0249-AEB5-4797-BC53-A0F8A745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4133F-25DB-4BDD-94D9-7CD33E3C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B981A-5018-4E19-B908-F36A0FC8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E770C-3565-47E3-A5E5-5E645F23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1A9EE-ACB4-499E-8AC7-9FB5CBEA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5FD2C-D509-40BD-AC96-49097159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C2820-E3CB-4FA2-8AF1-4CDBC9E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2B27D-7DF7-4EAB-8872-2AC34F46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BC84F-B900-483E-9AB9-3EF6784B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A6D51-4E2F-4A50-9960-5B47242E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DC466-37BC-49B9-8798-DDCCC692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501B3-16A2-45CF-8895-B949084D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ABC46-E709-425E-ACEC-3CEE1783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AB518-4785-410A-AC99-49CBE14A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426CC-F454-4F6B-8CB6-110D11A6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22F23-2B1E-4BB7-BC62-7922BCF5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C4842-5A36-447B-8850-F6C11FA1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7C6B0-0219-4F52-9134-F038AF6B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E49F3-5530-455D-ADAE-C3E64FBF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B142D-3C3C-478A-8654-F03CD312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D6B80-734E-4F78-89B2-232D43D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BC25E-0332-4E93-84E8-B2DD64C3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5E3B8-098B-4EEF-ADC9-B21547A7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FC715-EEC1-429D-AF28-393AA159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599FF6-89F4-44D0-8291-B2196C9C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4916C-FD26-40CF-8679-85B0ACD3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02793-306D-4328-9C05-E601BB30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4B689-2D80-4440-AF73-B2DDB6D4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932A6-4069-4442-A69C-B4CC13EE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714ACA-2B54-4D05-B26A-21A78766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EED13-FD88-427A-8554-17018EAC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73145-0B4F-4554-83EA-20C7CCED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EFCE01-FF14-4258-AFEB-AA1D20BA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ADB19-44F4-4E54-B635-F3953849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DB7A0A-85F1-4190-A7E7-28FADF69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CF296-6629-47B1-8229-599353A2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BE46B8-4604-4A7D-9FBA-02C1EE89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9D2B71-72DE-4E0A-8C38-547F177D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85456-ED7F-4026-B7AF-30AFF273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6B2C5-EE5D-4ADE-B7CE-3887C4DA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F2A0C-B4BF-4DE6-814A-AA44D8DA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4C4E3A-AE86-4F1E-A7A7-F91CA6AE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BB611-6D1C-40A6-BC7B-E16EB22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0A99DE-B016-4D7B-BDB7-62EC637A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F0776-AE7F-433D-AEBD-A6E3DD2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CAF47-BC59-4009-BEF1-C69AA386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A8FE1-DE15-4FA0-BEE6-A42C1474B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1F6C8E-B131-4335-9A55-31021B6E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984D33-DB4A-47D4-9E1A-97F2FF10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E5F5B-D04B-4E49-AED4-20D98A31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17E24-CA31-48DE-B05D-75A740F6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E277B5-3FC1-431E-B280-3CBDE46A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41C23-64E3-44B0-A897-819DE65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556BE-1781-4E96-B8CB-4DCDAA78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479F69-7CE7-4F6D-9BDB-33DAD3F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51BFB5-5B54-4E11-A506-011D3BAF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3F989-27BE-42C5-9781-415955C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81D9C-0D1A-45B7-8300-AED4F583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BB881-BDF9-43F6-B63D-BC1CCA4A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F5499-37C2-406F-905D-1488F6DF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F5C9A-63E1-480C-A541-316E72B2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DBBF1-C2CD-4249-97D7-E9535295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D5D128-373E-4FF6-9B7D-7BF6789C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DEED17-7CB4-4898-9979-02EE24BF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63F85A-E680-4CA9-A2B5-F9B8D480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207540-D471-42A0-8E37-D9E48995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CBC13-C4FE-48F7-ADEA-DC0AD020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8C528-3529-4C65-B001-1362E35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D4597-7AC5-47E9-B721-B244B333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F03F9-5B1E-4321-8B78-CAC2E055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0ECD6-CCCE-4F9F-A74F-71AD1248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B2776C-6E14-41AE-AB5F-ECFB9345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379C06-9BA2-452E-B259-3EA3AC10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9279BE-C781-44A5-AC08-EADD5A2C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109F6-6416-44F0-8FD3-8BC47251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6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7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3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6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7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956E-C306-4870-B609-5070DBB1562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5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C101-0C27-4E3E-BC6B-560F2278280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1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2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9507-3D8D-45D1-9421-9127FA958229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8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B02F-6AAC-4139-813F-FE2FBEF0630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6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7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6B71-3F9A-47DC-9C26-E44DCA65049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0D14-C3C2-49FE-9682-C932BED747B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6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2481120" y="6152760"/>
            <a:ext cx="41817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0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AED-6A88-4501-84CF-C4D60E8108DD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4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F1E8-D134-4AFF-8F4E-759E5535C0F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5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5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52BE-A747-4097-86E4-38FAEB5D9CC2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E17B-66F0-422B-BDBF-487CEF38549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0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1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ACAE-F049-4EB1-80C9-7D73EBCBA83C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0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B02F-138A-4A0B-BEE2-1B9410D660B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5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5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6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CA67-ED70-4154-B3C3-217A3B80BC7B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177-2457-4193-9745-7E174858508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0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1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1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9E1F-CA84-4BFF-BFBE-D2268670CDBB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6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AEEB-9B9F-4DE9-8FC9-E18F2BE1781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6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6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7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C60D-FF78-47B2-89DD-0EC2BC1FDE78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9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7F50-47E1-4E00-ACD5-06D1A0824D0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1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1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07E5-4065-49D0-A2B6-679CA22430D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2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CD54-90BC-4575-97B6-39470504B03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tsliven2@abv.bg" TargetMode="External"/><Relationship Id="rId2" Type="http://schemas.openxmlformats.org/officeDocument/2006/relationships/hyperlink" Target="http://www.nsi.bg/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nsi.bg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200" y="1636560"/>
            <a:ext cx="7869240" cy="17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3400" spc="-1" strike="noStrike">
                <a:solidFill>
                  <a:srgbClr val="000000"/>
                </a:solidFill>
                <a:latin typeface="Yeseva One"/>
                <a:ea typeface="Arial"/>
              </a:rPr>
              <a:t>СТАТИСТИКА В КЛАСНАТА СТАЯ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143000" y="4043520"/>
            <a:ext cx="68580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Yeseva One"/>
                <a:ea typeface="Arial"/>
              </a:rPr>
              <a:t>Калина Казанджи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Yeseva One"/>
                <a:ea typeface="Arial"/>
              </a:rPr>
              <a:t>Директор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Yeseva One"/>
                <a:ea typeface="Arial"/>
              </a:rPr>
              <a:t>Териториално статистическо бюро - Югоиз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2481120" y="580536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469440" y="1846440"/>
            <a:ext cx="533556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Церемонията по награждаването се проведе на 7 декември 2022 г. от 14:00 часа в зала „Георги Данчев“ на Областна администрация – Сливе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лучихме подкрепа от проф. д-р Михаил Кончев и г-жа Антоанета Илкова, изразяваща се в отделено време, лична ангажираност и участие в церемонията по награждаването на участници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овината е разпространена от пресслужбата на Областна администрация – Сливен и видно от медиамониторинга на НСИ - 9 медии са я публикув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1000" y="1258920"/>
            <a:ext cx="7886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1"/>
          <a:stretch/>
        </p:blipFill>
        <p:spPr>
          <a:xfrm>
            <a:off x="5964120" y="1979640"/>
            <a:ext cx="27021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1108080"/>
            <a:ext cx="78868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6" name="Content Placeholder 4" descr=""/>
          <p:cNvPicPr/>
          <p:nvPr/>
        </p:nvPicPr>
        <p:blipFill>
          <a:blip r:embed="rId1"/>
          <a:stretch/>
        </p:blipFill>
        <p:spPr>
          <a:xfrm>
            <a:off x="125280" y="2273400"/>
            <a:ext cx="4362480" cy="331128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5"/>
          <p:cNvSpPr/>
          <p:nvPr/>
        </p:nvSpPr>
        <p:spPr>
          <a:xfrm>
            <a:off x="4370400" y="1690560"/>
            <a:ext cx="4521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лучихме предложение от директора на ПГИ, г-н Добрев да продължим и в бъдеще инициативата и да я разпространим сред училищата в област Слив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м. областния управител на област Сливен, г-н Андонов също изказа подкрепа за бъдещи периодични срещи с ученици, с акцент практическото приложение на статистически дан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Отзвукът за статистическото състезание бе положителен и с голям позитивен заряд за повишаване на статистическата грамотност и култура на младите хора, което е стратегическа цел - приоритет за НС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502920" y="1618920"/>
            <a:ext cx="55134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ез 2023 г. ТСБ – Югоизток организира и проведе за втори път регионално статистическо състезание за инфографика сред учениците в град Слив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В състезанието се включиха 39 ученици от три училища: ПГИ „Проф. д-р Димитър Табаков“, ППМГ „Добри Чинтулов“, СУ „П. К. Яворов“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Според възрастовите категор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я А (от X, XI и XII клас) - 27 учениц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я Б (от VIII и IX клас) - 12 учениц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Инфографиките, които учениците подготвиха с помощта на ментори - икономисти и IT специалисти, бяха изработени въз основа на данни от Преброяването на населението и жилищния фонд в Република България през 2011 и през 2021 годи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11000" y="1108080"/>
            <a:ext cx="7886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0" name="Picture 54" descr=""/>
          <p:cNvPicPr/>
          <p:nvPr/>
        </p:nvPicPr>
        <p:blipFill>
          <a:blip r:embed="rId1"/>
          <a:stretch/>
        </p:blipFill>
        <p:spPr>
          <a:xfrm>
            <a:off x="6102360" y="2273400"/>
            <a:ext cx="2495520" cy="300816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4023720" y="31896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егория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1141200"/>
            <a:ext cx="7886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28560" y="1690560"/>
            <a:ext cx="5151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Оценяването на работата на учениците беше извършено от жури с председател Антон Георгиев, началник на отдел „Статистически изследвания - Сливен“. В състава на журито бяха още: Ива Тарагошева, старши експерт по професионално образование и обучение към РУО – Сливен и Сребрина Ганушева - главен експерт в отдел „Статистически изследвания - Сливен“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42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Чавдар Божурски, и.д. областен управител на област Сливен връчи медали за призовите места на участниците от двете категории.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42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42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Всички участници получиха грамоти за участието си в състезаниет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42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6265800" y="1920960"/>
            <a:ext cx="22496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1141200"/>
            <a:ext cx="7886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7" name="Content Placeholder 6" descr=""/>
          <p:cNvPicPr/>
          <p:nvPr/>
        </p:nvPicPr>
        <p:blipFill>
          <a:blip r:embed="rId1"/>
          <a:stretch/>
        </p:blipFill>
        <p:spPr>
          <a:xfrm>
            <a:off x="628560" y="2025720"/>
            <a:ext cx="5100840" cy="379080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4"/>
          <p:cNvSpPr/>
          <p:nvPr/>
        </p:nvSpPr>
        <p:spPr>
          <a:xfrm>
            <a:off x="5797440" y="1762200"/>
            <a:ext cx="300204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Директорът на ТСБ – Югоизток връчи благодарствени писма на областния управител на област Сливен, на представителите на РУО - Сливен, на директорите на училищата и на представителите от отдел „Статистически изследвания - Сливен“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състващите получиха и рекламни материали на НС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1090080"/>
            <a:ext cx="7886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77360" y="1635120"/>
            <a:ext cx="81630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На 11 май 2023 г. в сградата на Областна администрация Ямбол ТСБ - Югоизток организира тържествена церемония за връчване на грамоти на учениците от Езикова гимназия „Васил Карагьозов“ - гр. Ямбол, участвали в две от ежегодните статистически състезания, организирани от НСИ на територията на България, а именно: ЕОС за ученици 2022 - 2023 и Международния конкурс за статистически плакат 2022 - 2023, организиран от Международната асоциация за обучение по статистика и Международния статистически институт. Присъстваха г-н Георги Чалъков, областен управител на област Ямбол, г-н Стойко Стойков, началник на РУО - гр. Ямбол, г-жа Петя Деновска, старши експерт по математика в РУО- гр. Ямбол, г-н Йордан Милков, директор на ЕГ„В. Карагьозов“, ментори, ученици и представители на ТСБ - Югоизто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ционалния кръг на Шестата ЕОС от област Ямбол взеха участие седем отбора, всичките от ЕГ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„В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гьозов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“, гр. Ямбо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1090080"/>
            <a:ext cx="7886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04720" y="1932120"/>
            <a:ext cx="3726000" cy="32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бор VELOCITY с ментор г-жа Величка Стоянова, се класира на Националния кръг и представи България на европейския фин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ниците от отбор VELOSITY при ЕГ, в състав Ирен Николова, Никол Андонова и Христина Койчева, с ментор Величка Стоянова, представиха пред аудиторията своята презентация на тема „Благосъстояни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4" name="Picture 1" descr="1586A901D-BCE0-4AE3-B11F-466CA23DF977"/>
          <p:cNvPicPr/>
          <p:nvPr/>
        </p:nvPicPr>
        <p:blipFill>
          <a:blip r:embed="rId1"/>
          <a:stretch/>
        </p:blipFill>
        <p:spPr>
          <a:xfrm>
            <a:off x="4400640" y="1932120"/>
            <a:ext cx="4265640" cy="320328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3"/>
          <p:cNvSpPr/>
          <p:nvPr/>
        </p:nvSpPr>
        <p:spPr>
          <a:xfrm>
            <a:off x="-2341440" y="319320"/>
            <a:ext cx="138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Μοντέρνα"/>
              </a:rPr>
              <a:t>Учениците от отб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Μοντέρνα"/>
              </a:rPr>
              <a:t>VELOSITY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Μοντέρνα"/>
              </a:rPr>
              <a:t> при ЕГ, в състав Ирен Николова, Никол Андонова и Христина Койчева, с ментор Величка Стоянова, представи пред аудиторията своята презентация на тем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  <a:ea typeface="Μοντέρνα"/>
              </a:rPr>
              <a:t>„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Μοντέρνα"/>
              </a:rPr>
              <a:t>Благосъстоя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  <a:ea typeface="Μοντέρνα"/>
              </a:rPr>
              <a:t>“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Μοντέρνα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1274400"/>
            <a:ext cx="788688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 м.септември 2023 година по покана на РУО - Ямбол началникът на ОСИ – Ямбол, г-жа Петя Станкова проведе среща с учители по математика, информационни технологии и информатика от Област Ямбол, като ги запозна с условията за участие в Европейската олимпиада по статистика, мотивиращите фактори и постигнатите успехи. В резултат се увеличи интереса на учителите и от други училища, които се включиха в организирания от НСИ семинар, а през следваща година се увеличи и броя на участващите в ЕОС училища от областт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 м. ноември по покана на г-жа Йонка Турлакова, учител по математика в ПТГ </a:t>
            </a:r>
            <a:r>
              <a:rPr b="0" lang="bg-BG" sz="19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ван Райнов</a:t>
            </a:r>
            <a:r>
              <a:rPr b="0" lang="bg-BG" sz="19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Ямбол, служители на ОСИ - Ямбол се срещнаха с ученици от 12 клас и беседваха за дейността на НСИ, приложението на статистиката в ежедневието, търсенето на данни от сайта на НСИ и ИНФОСТАТ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3480" y="1160640"/>
            <a:ext cx="7986600" cy="3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Calibri"/>
                <a:ea typeface="Calibri"/>
              </a:rPr>
              <a:t>Инициативи и постижения 2024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494320" y="1674360"/>
            <a:ext cx="323064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ез м. февруари 2024 г., в Университет „Проф. д-р Асен Златаров“, гр. Бургас ТСБ-Югоизток проведе практически семинар на тема: „НСИ като информационен партньор на бизнеса“. Семинарът бе  организиран от катедра „Икономика и управление“, Факултет по обществени науки, по инициатива на студентски клуб „Млад предприемач“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541440" y="1274760"/>
            <a:ext cx="8183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541440" y="1789200"/>
            <a:ext cx="4767120" cy="29588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2"/>
          <p:cNvSpPr/>
          <p:nvPr/>
        </p:nvSpPr>
        <p:spPr>
          <a:xfrm>
            <a:off x="477720" y="4862520"/>
            <a:ext cx="83646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Целта на семинара бе подобряване на практическата подготовка на студентите от специалност „Стопанско управление“ - бъдещи мениджъри и предприемачи, чрез повишаване на осведомеността им за статистиката като практика, запознаване с основните взаимодействия на бизнеса с НСИ, както и с възможността за кариерно развитие като държавен служите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28560" y="1274400"/>
            <a:ext cx="788688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4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11120" y="1690560"/>
            <a:ext cx="810432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ез м. май 20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 г., в сградата на Областна администрация Бургас, ТСБ - Югоизток организира тържествена церемония за връчване на благодарствени писма на участници в статистически състезания, а именно: „ЕОС за ученици 20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„Дейтатон 2023“, „Дейтатон 2024“ и „Конкурс за статистическо есе 2023“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 събитието присъстваха проф. д.н. Мария Нейкова, областен управител на област Бургас, г- жа Петя Петрова, началник на РУО-Бургас, г-жа Мария Ценова, заместник-директор на Немска езикова гимназия „Гьоте“ - гр. Бургас, ментори, ученици, гости и представители на ТСБ - Югоизт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езентации представиха класиралият се на 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ърво място в първото статистическо състезание по Дейтатон отбор „МАТАТОН“ от ППМГ Акад. Никола Обрешков“, гр. Бургас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Елизавета Николаева от СУ „Иван Вазов“, гр. Поморие класирала се на първо място във втория конкурс за статистическо е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528480" y="1728720"/>
            <a:ext cx="788688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4400" y="1029960"/>
            <a:ext cx="788688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Yeseva One"/>
                <a:ea typeface="Arial"/>
              </a:rPr>
              <a:t>Необходимост от ново изменение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1123920"/>
            <a:ext cx="788688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4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28560" y="1690200"/>
            <a:ext cx="7886880" cy="14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оф. д.н. Мария Нейкова поднесе благодарствени писма на общо 73 участници (в т.ч. ментори), обединени в 24 отбора от 5 учебни заведения и 2 общини от област Бургас, които са се класирали на втория национален кръг от ЕО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 в двете издания на статистическото състезание „Дейтатон“ и на втория конкурс за статистическо ес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7" descr=""/>
          <p:cNvPicPr/>
          <p:nvPr/>
        </p:nvPicPr>
        <p:blipFill>
          <a:blip r:embed="rId1"/>
          <a:stretch/>
        </p:blipFill>
        <p:spPr>
          <a:xfrm>
            <a:off x="1006560" y="3187800"/>
            <a:ext cx="71308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360" y="1258920"/>
            <a:ext cx="79614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4 годин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9" name="Content Placeholder 5" descr=""/>
          <p:cNvPicPr/>
          <p:nvPr/>
        </p:nvPicPr>
        <p:blipFill>
          <a:blip r:embed="rId1"/>
          <a:stretch/>
        </p:blipFill>
        <p:spPr>
          <a:xfrm rot="627600">
            <a:off x="4117680" y="2727360"/>
            <a:ext cx="4413240" cy="2568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C:\Users\pmpetrov\Downloads\20241018_132612.jpg"/>
          <p:cNvPicPr/>
          <p:nvPr/>
        </p:nvPicPr>
        <p:blipFill>
          <a:blip r:embed="rId2"/>
          <a:stretch/>
        </p:blipFill>
        <p:spPr>
          <a:xfrm rot="20371800">
            <a:off x="610920" y="2368080"/>
            <a:ext cx="3620880" cy="214020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"/>
          <p:cNvSpPr/>
          <p:nvPr/>
        </p:nvSpPr>
        <p:spPr>
          <a:xfrm>
            <a:off x="704880" y="5075280"/>
            <a:ext cx="55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ез м. октомври 20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г., в сградата на Областна администрация Стара Загора, ТСБ - Югоизток организира тържествена церемония за връчване на благодарствени писма на участници от областта в ЕО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418680" y="1568520"/>
            <a:ext cx="82962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ъбитието присъстваха г-н Левент Палов и г-н Петко Карагитлиев, заместник-областни управители на област Стара Загора, г-н Антони Илиев, директор на Професионална гимназия по лека промишленост и туризъм в гр. Казанлък, г-жа Корнелия Владева, ментор на отборите от ПГЛПТв гр. Казанлък и представители на ТСБ - Югоизт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воите презентации представиха двата отбора от ПГЛПТ гр. Казанлък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татитийм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“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татитийм 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119160" y="1674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5" descr="20241018_130352"/>
          <p:cNvPicPr/>
          <p:nvPr/>
        </p:nvPicPr>
        <p:blipFill>
          <a:blip r:embed="rId1"/>
          <a:stretch/>
        </p:blipFill>
        <p:spPr>
          <a:xfrm>
            <a:off x="1535040" y="3724200"/>
            <a:ext cx="5570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541440" y="1274760"/>
            <a:ext cx="8183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947520" y="1825200"/>
            <a:ext cx="756756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4 год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469800" y="2247840"/>
            <a:ext cx="818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 резултат на инициативите и допълнителната активност и настойчивост от страна на ръководния състав и на експертите на ТСБ – Югоизток, се увели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Броя на отборите, от училища на територията на ТСБ – Югоизток, участващи в Националния кръг на ЕОС от </a:t>
            </a:r>
            <a:r>
              <a:rPr b="1" lang="bg-BG" sz="1800" spc="-1" strike="noStrike">
                <a:solidFill>
                  <a:srgbClr val="2f5597"/>
                </a:solidFill>
                <a:latin typeface="Calibri"/>
              </a:rPr>
              <a:t>20</a:t>
            </a:r>
            <a:r>
              <a:rPr b="0" lang="bg-BG" sz="1800" spc="-1" strike="noStrike">
                <a:solidFill>
                  <a:srgbClr val="2f5597"/>
                </a:solidFill>
                <a:latin typeface="Calibri"/>
              </a:rPr>
              <a:t> през 2022/2023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bg-BG" sz="1800" spc="-1" strike="noStrike">
                <a:solidFill>
                  <a:srgbClr val="c00000"/>
                </a:solidFill>
                <a:latin typeface="Calibri"/>
              </a:rPr>
              <a:t>44</a:t>
            </a:r>
            <a:r>
              <a:rPr b="0" lang="bg-BG" sz="1800" spc="-1" strike="noStrike">
                <a:solidFill>
                  <a:srgbClr val="c00000"/>
                </a:solidFill>
                <a:latin typeface="Calibri"/>
              </a:rPr>
              <a:t> през 2023/2024 г.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Броя на участниците от училища на територията на ТСБ – Югоизток, участващи в Националния кръг на ЕОС от </a:t>
            </a:r>
            <a:r>
              <a:rPr b="1" lang="bg-BG" sz="1800" spc="-1" strike="noStrike">
                <a:solidFill>
                  <a:srgbClr val="2f5597"/>
                </a:solidFill>
                <a:latin typeface="Calibri"/>
              </a:rPr>
              <a:t>46</a:t>
            </a:r>
            <a:r>
              <a:rPr b="0" lang="bg-BG" sz="1800" spc="-1" strike="noStrike">
                <a:solidFill>
                  <a:srgbClr val="2f5597"/>
                </a:solidFill>
                <a:latin typeface="Calibri"/>
              </a:rPr>
              <a:t> през 2022/2023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bg-BG" sz="1800" spc="-1" strike="noStrike">
                <a:solidFill>
                  <a:srgbClr val="c00000"/>
                </a:solidFill>
                <a:latin typeface="Calibri"/>
              </a:rPr>
              <a:t>103</a:t>
            </a:r>
            <a:r>
              <a:rPr b="0" lang="bg-BG" sz="1800" spc="-1" strike="noStrike">
                <a:solidFill>
                  <a:srgbClr val="c00000"/>
                </a:solidFill>
                <a:latin typeface="Calibri"/>
              </a:rPr>
              <a:t> през 2023/2024 годин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сички постижения на учениците и техните преподаватели, които се включват и активно участват в инициативите на НСИ са повод за гордост за нас и удовлетворение от постигнатот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541440" y="1274760"/>
            <a:ext cx="8183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947520" y="1825200"/>
            <a:ext cx="756756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4 год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469800" y="2247840"/>
            <a:ext cx="8188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 рамките на днешния форум бих искала да спомена и получен на 5 февруари 2024 г. имейл от г-жа  Петя Петрова, началник на РУО – Бургас, която посочва следното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2f5597"/>
                </a:solidFill>
                <a:latin typeface="Calibri"/>
              </a:rPr>
              <a:t>Не мога да скрия задоволството си от факта, че партньорството ни доведе до тези резултат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2f5597"/>
                </a:solidFill>
                <a:latin typeface="Calibri"/>
              </a:rPr>
              <a:t>Благодаря В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2f5597"/>
                </a:solidFill>
                <a:latin typeface="Calibri"/>
              </a:rPr>
              <a:t>Ще потвърдя разбирането на РУО - Бургас за важността на инициативите в частта им подпомагане развитието на уменията на ученици/ учители за анализиране на информация и работа със статистически дан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2f5597"/>
                </a:solidFill>
                <a:latin typeface="Calibri"/>
              </a:rPr>
              <a:t>Ще се радвам ако можем да обсъдим задълбочаване на партньорството ни с обучение за директори /зам. директори  за това как да се събират и обработват данни - полезни съвети и насок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2f5597"/>
                </a:solidFill>
                <a:latin typeface="Calibri"/>
              </a:rPr>
              <a:t>Оставам в очакван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612720" y="2930040"/>
            <a:ext cx="788688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Yeseva One"/>
                <a:ea typeface="Arial"/>
              </a:rPr>
              <a:t>БЛАГОДАРЯ ЗА ВНИМАНИЕТО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536400" y="2599920"/>
            <a:ext cx="797112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7760" indent="-1677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Разширяването на инициативите за повишаване на статистическата грамотност и култура на младите хора е стратегическа цел, която е приоритет за НС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При осъществяване на дейностите за изпълнение на тази цел    ТСБ - Югоизток ежегодно си взаимодейства с партньори от образователните и академичните среди, и медиит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Специална подкрепа на мероприятията, свързани с тези инициативи ни оказват и областните управители в областите Бургас, Сливен, Стара Загора и Ямбол, които отделят време и внимание за срещи и допълнително поощряване на младите хора, участващи в статистически изяв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1360" y="1438200"/>
            <a:ext cx="8013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Yeseva One"/>
                <a:ea typeface="Arial"/>
              </a:rPr>
              <a:t>Ролята на ТСБ – Югоизток при изпълнение на стратегическите цели за популяризиране на статистиката сред обществеността, особено сред младите хора – ученици и студенти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536400" y="2599920"/>
            <a:ext cx="797112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 инициатива на г-жа Д. Камбурова, началник на ОСИ – Бургас, в ТСБ – Югоизток, изготвихме анкета и със съдействието на РУО във всяка област, получихме информация от училищата, която обобщихме и  изпратихме до г-жа Антоанета Илкова, директор МСУП в НСИ.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11360" y="1438200"/>
            <a:ext cx="8013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Yeseva One"/>
                <a:ea typeface="Arial"/>
              </a:rPr>
              <a:t>Ролята на ТСБ – Югоизток при изпълнение на стратегическите цели за популяризиране на статистиката сред обществеността, особено сред младите хора – ученици и студенти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711360" y="3741840"/>
            <a:ext cx="7796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561600" y="2147760"/>
            <a:ext cx="79455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2022 година беше много плодоносна за младите представители от училища в област Сливен, участващи в инициативите на НСИ и по конкретно за учениците от Професионална гимназия по икономика „Проф. д-р Димитър Табаков“, гр. Сливен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Сред 326 ученици от 129 отбора в Категория Б</a:t>
            </a:r>
            <a:r>
              <a:rPr b="1" lang="bg-BG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(ученици от VIII - IX клас) в Националния кръг на Петата европейска олимпиада по статистика, отбор „VETROGRAD“ се класира на призовото </a:t>
            </a:r>
            <a:r>
              <a:rPr b="1" lang="bg-BG" sz="2100" spc="-1" strike="noStrike">
                <a:solidFill>
                  <a:srgbClr val="000000"/>
                </a:solidFill>
                <a:latin typeface="Calibri"/>
              </a:rPr>
              <a:t>второ място в страната</a:t>
            </a: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. Това са: Алекс Георгиев и Димитър Добрев, с ментор г-жа Мариана Петрова. 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Постигнатият успех беше основен фактор за последващата инициатива, предложена от гимназията за реализиране от ТСБ – Югоизток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11000" y="1438200"/>
            <a:ext cx="78865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620280" y="2004840"/>
            <a:ext cx="7767720" cy="34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 разрешението на доц. д-р Атанас Атанасов, Председател на НСИ, по повод Деня на европейската статистика - 20 октомври, ТСБ - Югоизток и ПГИ „Проф. д-р Димитър Табаков“ организираха и проведоха първото по рода си в страната статистическо състезание за инфографика на тема: 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„Статистиката е забавна. Официалните статистически данни - през погледа на учениците“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Calibri"/>
              </a:rPr>
              <a:t>Регламент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1. Цел на състезанието -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вишаване на функционалната грамотност и статистическата култура на учениците чрез провокиране на творческия им потенциал, развиване на умения за критично мислене, умения за работа с данни и тяхната визуализа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11000" y="1342800"/>
            <a:ext cx="78865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620640" y="1778040"/>
            <a:ext cx="78868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2. Условия на състезание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аво на участие в състезанието имаха всички ученици от VIII до XII клас от ПГИ „Проф. д-р Димитър Табаков“- гр. Сливен, разпределени в две възрастови категор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98960" indent="-165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Категория А – включва учениците от X, XI и XII клас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98960" indent="-165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Категория Б – включва учениците от VIII и IX клас.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Учениците имаха на разположение 5 седмици (до 25 ноември 2022 г., вкл.) да изпратят своите инфографики на имейл </a:t>
            </a:r>
            <a:r>
              <a:rPr b="0" lang="bg-BG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itsliven2@abv.bg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Броят на инфографиките, представени от един ученик не беше ограни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ямаше изискване за вида на използвания програмен про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Единственото изискване беше инфографиките да са базирани на данни, които са публикувани на сайта на НСИ (</a:t>
            </a:r>
            <a:r>
              <a:rPr b="0" lang="bg-BG" sz="2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nsi.bg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11000" y="1266840"/>
            <a:ext cx="78865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620280" y="1836720"/>
            <a:ext cx="797724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3. Критерии за оценяване –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остоверност; креативност; оригиналност; адекватност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Участниците трябваше да покажат знания и умения относно правилното разбиране, интерпретиране и представяне на данните във вид на инфографика, да използват аргументирано официална статистическа информация от: сайта на НСИ - </a:t>
            </a:r>
            <a:r>
              <a:rPr b="0" lang="bg-BG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nsi.bg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Инфографиките се оценяваха от определено със заповед на Председателя на НСИ, шестчленно компетентно жури с Председател: проф. д-р Михаил Кончев, заместник - председател на Националния статистически инстит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калата на оценяване на отделна инфографика по всеки критерий, беше от 1 до 5 точки, като 5 бе най-високата оценка. Максималната обобщена оценка на журито за 1 инфографика беше 120 то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1000" y="1258920"/>
            <a:ext cx="7886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176040" y="1769760"/>
            <a:ext cx="38419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Общо от 53 ученика бяха представени и оценени 54 инфографики, като интерес са провокирали следните статистически рубр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емографска и социална статистика – 34 бро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Бизнес статистика – 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Околна среда и енергетика – 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Макроикономическа статистика – 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елско и горско стопанство – 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анъчна статистика – 1 б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11000" y="1258920"/>
            <a:ext cx="7886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3909960" y="1913040"/>
            <a:ext cx="4981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14:39:36Z</dcterms:created>
  <dc:creator>Kostadin Georgiev</dc:creator>
  <dc:description/>
  <dc:language>en-US</dc:language>
  <cp:lastModifiedBy>Dochka Kamburova</cp:lastModifiedBy>
  <dcterms:modified xsi:type="dcterms:W3CDTF">2024-12-13T12:14:49Z</dcterms:modified>
  <cp:revision>135</cp:revision>
  <dc:subject/>
  <dc:title>PowerPoint Presentation</dc:title>
</cp:coreProperties>
</file>